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57CBC-EEE9-4FB6-95E7-EF56D8605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ask each other and / or look up some words/phrases they don’t k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D2E0-493A-468B-BAE3-C8A8AE685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ut up the words/phrases and definitions for learners to match physically, or do it on the board  Ley: 1/c  2/a  3/e  4/b  5/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D4D79-401A-4607-A397-297F815A7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can discuss brief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3298-391B-4D3A-9A87-B7ECF7D28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what these two think about the qu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E499-C1B7-4907-8491-E1F66E2FB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vide the class into two groups, A and B. Hand out a print out of the text, or get learners to research online. They can prepare their 5 good points in pairs or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8827-AC9D-4173-A28D-C102FC047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ve learners into pairs A &amp; B. You could monitor for errors and elicit corrections post-ta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E258-A8C5-4462-8D5B-CE15ECABB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ould work in groups or pairs. They could then display their work for others to comment on /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B42A-40D2-432A-AC12-819198F85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learners do not have access to the internet, you could print off a copy of some of the other arguments for them to read inst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DD66-2887-4069-8946-5869F3E72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will take 2.5 – 3 hrs: speaking (15 mins), focus on language + language practice (30 mins), dictation (10 – 15 mins), vocabulary (10 – 15 mins), reading / preparation (15 – 20 mins), speaking + error correction (arguments) (20 - 30 mins), writing (20 – 30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search + more speaking / feedback (30 – 45 mi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0C8-B151-4499-8705-264FB676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hand out different topics to each pair, or get them to choose top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DCAF-A068-468C-B9F6-986377EEB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ould get learners to all come to the board and write some of their sentences. Other learners then read and correct any err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E0DD-5B28-49C2-99A4-525E33D66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lp learners correct the errors. You can then elicit and add utterance stress and dr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You can concept check the difference between “should” and “ought to” (strength?) and the difference between “have to” and “must” (external/internal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BED6-BF0F-4CDD-8B1B-DDF926DD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357E-497B-4BA7-AAFF-039257FCC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language learners know under the hea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0936-E94A-4523-9D15-29DE8FD30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d to th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B2D9-54B2-4359-84F4-6F1BC757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on’t show learners this slide to correct from until after you have dictated the 5 sentences and learners have checked in pairs. An alternative to a traditional dictation is to do a dictog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7CAE-58ED-444A-9E6F-DB7DE4597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34E-3E60-435A-9D09-DA202BC4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92FA-5C9F-43DF-81B3-BAEEABBD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6830-1C05-4F92-B78B-B19A1A68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461F-A0EF-48E6-B450-000D5BC7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4B6-0D32-4E8D-A12D-3C57B204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6815-0954-4F9F-ACBB-5A53F186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744-DBF3-4BFA-8CC9-57FC9A68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22D-DB3A-4BC2-BBDC-508F9604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CC0-88E5-4024-877E-1CDEBECF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422-8CCA-4AB5-A832-F8DE6503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5B9-2EE6-41D6-847D-C8BCE61B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115-512D-4FD9-B0F9-36AD7623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3AA8-0E33-4B27-AD65-F789296DA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:_If_you_worry_about_climate_change,_is_it_a_good_idea_to_have_children%3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rguments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204640"/>
            <a:ext cx="8497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0" spc="-1" strike="noStrike">
                <a:solidFill>
                  <a:srgbClr val="000000"/>
                </a:solidFill>
                <a:latin typeface="Calibri"/>
              </a:rPr>
              <a:t>Argue better</a:t>
            </a:r>
            <a:endParaRPr b="0" lang="en-US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4720" y="530028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771640" y="549360"/>
            <a:ext cx="63709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What do these words/phrases mea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fossil fuels       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energy consump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arbon emiss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sustainable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clean energ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tch phrase and defini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78920" y="1412640"/>
            <a:ext cx="331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030a0"/>
                </a:solidFill>
                <a:latin typeface="Calibri"/>
              </a:rPr>
              <a:t>1) </a:t>
            </a: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clean energ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2) fossil fue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3) carbon emis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4) energy consump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7030a0"/>
                </a:solidFill>
                <a:latin typeface="Calibri"/>
              </a:rPr>
              <a:t>5) sustainab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492000" y="1341000"/>
            <a:ext cx="5472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l, oil and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uch energy we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from natural sources (eg. sun, wind, waves) that produces less C0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we protect the planet by not using too many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mount of CO2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estion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If we worry about climate change, should w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have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70c0"/>
                </a:solidFill>
                <a:latin typeface="Calibri"/>
              </a:rPr>
              <a:t>childr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100400" y="3343320"/>
            <a:ext cx="48024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Yes, or n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6640"/>
            <a:ext cx="40384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Anne Hendrixson is the Director of PopDev. PopDev is a centre for critical thinking, learning and working for peace, population and the environment at Hampshire College,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Erica Gies is an independent journalist . She writes about what we need for life: water and energy. She writes for The New York Times, The Guardian, Scientific American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268360" y="3933720"/>
            <a:ext cx="1845000" cy="256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7093080" y="3933720"/>
            <a:ext cx="1509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:  Agree                   B: Disagre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Read this to find </a:t>
            </a: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0" lang="en-GB" sz="6000" spc="-1" strike="noStrike">
                <a:solidFill>
                  <a:srgbClr val="000000"/>
                </a:solidFill>
                <a:latin typeface="Calibri"/>
              </a:rPr>
              <a:t> good points to support your argument, and compare with your partner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:_If_you_worry_about_climate_change,_is_it_a_good_idea_to_have_children%3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w pairs :  A &amp; B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000000"/>
                </a:solidFill>
                <a:latin typeface="Calibri"/>
              </a:rPr>
              <a:t>Argue!</a:t>
            </a:r>
            <a:endParaRPr b="0" lang="en-US" sz="1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+ remember a) should/ought to + infin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b) language to agree/disagr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arguments.jpg"/>
          <p:cNvPicPr/>
          <p:nvPr/>
        </p:nvPicPr>
        <p:blipFill>
          <a:blip r:embed="rId1"/>
          <a:stretch/>
        </p:blipFill>
        <p:spPr>
          <a:xfrm>
            <a:off x="5580000" y="1413000"/>
            <a:ext cx="343080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rite a response to these comments on an online discussion forum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ill says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ately I haven’t been able to sleep because I’m so worried about climate change. Surely these problems would all be solved if people stopped being so selfish having more and more childre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thy says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What a horrible thing to say! It’s not children who are causing climate change, it’s big business. What we need to do is stop them and make them more sustain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remember to use modal verbs and language to agree or disagre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ind another argu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rg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ad it and make note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S points 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O po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ave a few more argument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new internationalist.jpg"/>
          <p:cNvPicPr/>
          <p:nvPr/>
        </p:nvPicPr>
        <p:blipFill>
          <a:blip r:embed="rId2"/>
          <a:stretch/>
        </p:blipFill>
        <p:spPr>
          <a:xfrm>
            <a:off x="6659640" y="189000"/>
            <a:ext cx="22003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70c0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79280" y="134136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Choose one of the topics from today’s lesson (children, climate change, food, toys, or any of the arguments you read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Decide on a letter you want to write – who to? w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/ Write the letter. Make sure it explains very clearly what you want to s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Check your letter very carefully for erro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Send it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Lesson menu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560" y="1484280"/>
            <a:ext cx="8713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rter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in courses: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gramma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modal verb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languag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agree and disagre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vocabula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or the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read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prepare for argu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peakin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rgue even bett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essert: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writing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comment to discussion foru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main course.jpg"/>
          <p:cNvPicPr/>
          <p:nvPr/>
        </p:nvPicPr>
        <p:blipFill>
          <a:blip r:embed="rId1"/>
          <a:stretch/>
        </p:blipFill>
        <p:spPr>
          <a:xfrm>
            <a:off x="324000" y="285264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ose a topic and argu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196640"/>
            <a:ext cx="43214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b0f0"/>
                </a:solidFill>
                <a:latin typeface="Calibri"/>
              </a:rPr>
              <a:t>Countrie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ood – meat or vegetabl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4f6228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f6228"/>
                </a:solidFill>
                <a:latin typeface="Calibri"/>
              </a:rPr>
              <a:t>Toys – same for girls and boy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46c0a"/>
                </a:solidFill>
                <a:latin typeface="Calibri"/>
              </a:rPr>
              <a:t>Cars - which is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ducation – private or fre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e46c0a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427280" y="1413000"/>
            <a:ext cx="4716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f497d"/>
                </a:solidFill>
                <a:latin typeface="Calibri"/>
              </a:rPr>
              <a:t>Politics –Labour or Conservativ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84807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84807"/>
                </a:solidFill>
                <a:latin typeface="Calibri"/>
              </a:rPr>
              <a:t>TV programmes – which are b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0504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0504d"/>
                </a:solidFill>
                <a:latin typeface="Calibri"/>
              </a:rPr>
              <a:t>Animals – cat or dog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Languages - which is easies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17375e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arguments.jpg"/>
          <p:cNvPicPr/>
          <p:nvPr/>
        </p:nvPicPr>
        <p:blipFill>
          <a:blip r:embed="rId1"/>
          <a:stretch/>
        </p:blipFill>
        <p:spPr>
          <a:xfrm>
            <a:off x="7093080" y="5267160"/>
            <a:ext cx="180000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omplete these sentences in pairs with some of the things you said in your argumen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700280"/>
            <a:ext cx="821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think we                  should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hould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2) We really                   ought to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) In my opinion, we    have to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) Everyone                    mus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stn’t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0000"/>
                </a:solidFill>
                <a:uFillTx/>
                <a:latin typeface="Calibri"/>
              </a:rPr>
              <a:t>Language 1: modal verb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at the pattern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al verb + infini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-468360" y="2349000"/>
            <a:ext cx="5688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Is the grammar</a:t>
            </a: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1/ I think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/ We really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3 In my opinion,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have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  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4/ We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 must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5/ We </a:t>
            </a:r>
            <a:r>
              <a:rPr b="0" lang="en-GB" sz="3600" spc="-1" strike="noStrike">
                <a:solidFill>
                  <a:srgbClr val="7030a0"/>
                </a:solidFill>
                <a:latin typeface="Calibri"/>
              </a:rPr>
              <a:t>shouldn’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076720" y="2349000"/>
            <a:ext cx="439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correc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b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stop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learning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accept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drive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ow discuss these statements – do you 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920" y="191592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70c0"/>
                </a:solidFill>
                <a:latin typeface="Calibri"/>
              </a:rPr>
              <a:t>1/ I think we should all be vegetaria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b050"/>
                </a:solidFill>
                <a:latin typeface="Calibri"/>
              </a:rPr>
              <a:t>2/ We really ought to stop driving so muc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alibri"/>
              </a:rPr>
              <a:t>3/ In my opinion, we have to learn Chine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7030a0"/>
                </a:solidFill>
                <a:latin typeface="Calibri"/>
              </a:rPr>
              <a:t>4/ We must accept all relig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5/ We shouldn’t drive on short journey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92d050"/>
                </a:solidFill>
                <a:uFillTx/>
                <a:latin typeface="Calibri"/>
              </a:rPr>
              <a:t>Language 2: agreeing and disagreeing</a:t>
            </a: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35564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2d050"/>
                </a:solidFill>
                <a:latin typeface="Calibri"/>
              </a:rPr>
              <a:t>Language for agreeing and disagreeing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Agree:                      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         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completely 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hink so to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Disagree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  </a:t>
            </a:r>
            <a:r>
              <a:rPr b="1" lang="en-GB" sz="2800" spc="-1" strike="noStrike">
                <a:solidFill>
                  <a:srgbClr val="0070c0"/>
                </a:solidFill>
                <a:latin typeface="Calibri"/>
              </a:rPr>
              <a:t>becaus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agree with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totally disagr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 don’t think so, act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7030a0"/>
                </a:solidFill>
                <a:latin typeface="Calibri"/>
              </a:rPr>
              <a:t>Dictation – agree or disagre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196640"/>
            <a:ext cx="8712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There are too many people in the worl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Climate change is a big problem at the mome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f people don’t have so many children, climate change won’t be such a big proble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shouldn’t have childre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People have the right to have as many children as they wa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3T15:23:44Z</dcterms:created>
  <dc:creator>IT Technical Support</dc:creator>
  <dc:description/>
  <dc:language>en-US</dc:language>
  <cp:lastModifiedBy>Linda Ruas</cp:lastModifiedBy>
  <cp:lastPrinted>2015-03-11T09:31:56Z</cp:lastPrinted>
  <dcterms:modified xsi:type="dcterms:W3CDTF">2015-03-11T19:26:37Z</dcterms:modified>
  <cp:revision>62</cp:revision>
  <dc:subject/>
  <dc:title>Arguments</dc:title>
</cp:coreProperties>
</file>